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CE4-8AAA-4C26-A277-D54343DD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B5F-6C63-4564-B8AA-445DDCFA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84D-F31B-4643-8A5D-9F0D8DC7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B47-50BB-4622-9AAD-E23CBAD3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11D-8D4E-4C62-BFF2-31ACA2B0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623-AAD8-404F-B365-A675A07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991-F6EE-43B9-A046-B6A2BBBC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4F5-707D-4556-9153-78ED9AD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9D2-7ACA-4E1C-95D5-414D52A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6F9-2167-4175-AA88-BE41191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310-F389-4086-BAEA-2FD2FD2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8D6-3A80-4809-A970-855EA359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4F8-713E-41C1-9588-CD534257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xie Row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II H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, mache ich 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rinke keine Cola, weil es ungesund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chwimme dreimal in die Woche weil es gut für meine Her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gung schlafe weil ich nicht müde b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66880" y="4343400"/>
            <a:ext cx="2590920" cy="181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18190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inde es schade das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schade dass Ellie raucht so viel!  Rauchen ist sehr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Gesundheit! Es tut der Lunge hewe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2708280" cy="206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24386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inde es gut das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gut dass Sophia keinen Alkohol trinken. Es is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Herz und das Hir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1935360" cy="180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17812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629400" y="4495680"/>
            <a:ext cx="19242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ch t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, ich schwimme dreimal in der Woche. Ich mag Schwimmen, weil seine die beste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64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ch nicht 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ider, ich mache nicht die Sonne genung vermeiden. Ich vermeide die Sonnie nicht weil ich faul bin. Ich bin zu faul, zu Sonnenschutzmittel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zuwe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1962360" cy="212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6:20Z</dcterms:created>
  <dc:creator>CUSD220</dc:creator>
  <dc:description/>
  <dc:language>en-US</dc:language>
  <cp:lastModifiedBy>CUSD220</cp:lastModifiedBy>
  <dcterms:modified xsi:type="dcterms:W3CDTF">2012-02-28T19:19:26Z</dcterms:modified>
  <cp:revision>11</cp:revision>
  <dc:subject/>
  <dc:title>Gesund Leben</dc:title>
</cp:coreProperties>
</file>